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30C24-167F-4E89-9083-5E31B2975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1CCDD-D04D-4CCA-A434-83FBA5FD5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3ABD1-6D35-4E2F-B6D8-2DA204880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254D0-7369-4992-9564-37F632BC7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DE4A5-66D3-400A-A197-EA4742C0A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1000B-369A-445F-9783-E820D7E0D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BCED6-D416-4B8E-A05D-9D6CBB35D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E67BA-0456-4B75-9276-7F1120FCE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BA41B-974C-4FE3-B536-67EFE2A1B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A1614-B5B1-4A50-8C69-41E869293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268CD-4A35-47CA-AE4C-7181EBCC5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3EAC6-4682-49F4-A5FE-01AF7CF45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5331D-5B91-484D-9329-81D7A548452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6C953-5706-44FC-86EB-2FAA479728E7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50920" y="620640"/>
            <a:ext cx="8642160" cy="3384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8000"/>
                </a:solidFill>
                <a:latin typeface="Times New Roman"/>
              </a:rPr>
              <a:t>ФЕДЕРАЛЬНЫЙ КУРС</a:t>
            </a:r>
            <a:br>
              <a:rPr sz="3600"/>
            </a:br>
            <a:r>
              <a:rPr b="1" lang="ru-RU" sz="3600" spc="-1" strike="noStrike">
                <a:solidFill>
                  <a:srgbClr val="808000"/>
                </a:solidFill>
                <a:latin typeface="Times New Roman"/>
              </a:rPr>
              <a:t> «ШАХМАТЫ – ШКОЛЕ»</a:t>
            </a:r>
            <a:br>
              <a:rPr sz="3600"/>
            </a:br>
            <a:r>
              <a:rPr b="1" lang="ru-RU" sz="3600" spc="-1" strike="noStrike">
                <a:solidFill>
                  <a:srgbClr val="808000"/>
                </a:solidFill>
                <a:latin typeface="Times New Roman"/>
              </a:rPr>
              <a:t>1994 – 201</a:t>
            </a:r>
            <a:r>
              <a:rPr b="1" lang="en-US" sz="3600" spc="-1" strike="noStrike">
                <a:solidFill>
                  <a:srgbClr val="808000"/>
                </a:solidFill>
                <a:latin typeface="Times New Roman"/>
              </a:rPr>
              <a:t>9</a:t>
            </a:r>
            <a:br>
              <a:rPr sz="3600"/>
            </a:br>
            <a:br>
              <a:rPr sz="3600"/>
            </a:br>
            <a:r>
              <a:rPr b="1" lang="ru-RU" sz="2400" spc="-1" strike="noStrike">
                <a:solidFill>
                  <a:srgbClr val="808000"/>
                </a:solidFill>
                <a:latin typeface="Times New Roman"/>
              </a:rPr>
              <a:t>Издатель: учебно-методическое объединение «Духовное возрождение»,  г. Обнинс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447920" y="4005000"/>
            <a:ext cx="6400800" cy="21603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8000"/>
                </a:solidFill>
                <a:latin typeface="Times New Roman"/>
              </a:rPr>
              <a:t>Автор: И.Г.Сухин, Институт стратегии развития образования РАО, </a:t>
            </a:r>
            <a:r>
              <a:rPr b="1" lang="ru-RU" sz="2400" spc="-1" strike="noStrike">
                <a:solidFill>
                  <a:srgbClr val="808000"/>
                </a:solidFill>
                <a:latin typeface="Times New Roman"/>
              </a:rPr>
              <a:t>г. Москв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Номер слайда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3B73B-A732-439D-8211-887D8D85A7B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8000"/>
                </a:solidFill>
                <a:latin typeface="Times New Roman"/>
              </a:rPr>
              <a:t>УМК «Шахматы, первый год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8000"/>
                </a:solidFill>
                <a:latin typeface="Times New Roman"/>
              </a:rPr>
              <a:t>1. Программа «Шахматы, первый год»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первые опубликована в журналах «Начальная школа» (1994, №9) и «Вестник образования» (1994, №9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рограммы двух лет обучения «Шахматы, первый год» и «Шахматы, второй год» были приведены в сборнике «Программы общеобразовательных учреждений. Начальные классы (1 – 4)» (М.: Просвещение, 1996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рограммы трёх лет обучения «Шахматы, первый год», «Шахматы, второй год» и «Шахматы, третий год» были приведены в сборниках «Программы общеобразовательных учреждений. Начальные классы (1 – 4)» (М.: Просвещение, 1998), «Программы общеобразовательных учреждений. Начальные классы (1 – 4)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 двух частях. Часть вторая» (М.: Просвещение, 2000, 2001, 2002)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Отдельным изданием программы трёх лет обучения вышли в 2010, 2011, 2013 , 2016 и 2019 году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И.Г.Сухин «Программы курса «Шахматы – школе»: Для начальных классов общеобразовательных учреждений» (Обнинск: Духовное возрождение, 2010, 2011,  2013, 2016. – 40 с.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 Интернете программа первого года обучения расположена по адресам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ttp://chess555.narod.ru/1god.ht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http://suhin.narod.ru/chessprogr1.ht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В 2019 году впервые изданы рабочие программы курса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Номер слайда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11CF9-A999-4F70-A387-7830F92C397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8000"/>
                </a:solidFill>
                <a:latin typeface="Times New Roman"/>
              </a:rPr>
              <a:t>2-3.Учебник для начальной школы, первый год обуче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8000" y="2060280"/>
            <a:ext cx="32400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Учебник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«Шахматы, первый год, или Там клетки чёрно-белые чудес и тайн полны: Учебник для начальной школы, первый год обучения» (1998, 2009, 2011-2012, 2014, 2017-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2018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)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С 2009 г. издаётся в двух частях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Рисунок 6" descr="Сухин_Шахматы_1год_учебник2017_1часть20пр.jpg"/>
          <p:cNvPicPr/>
          <p:nvPr/>
        </p:nvPicPr>
        <p:blipFill>
          <a:blip r:embed="rId1"/>
          <a:stretch/>
        </p:blipFill>
        <p:spPr>
          <a:xfrm>
            <a:off x="3564000" y="2374920"/>
            <a:ext cx="2644560" cy="3575160"/>
          </a:xfrm>
          <a:prstGeom prst="rect">
            <a:avLst/>
          </a:prstGeom>
          <a:ln w="0">
            <a:noFill/>
          </a:ln>
        </p:spPr>
      </p:pic>
      <p:pic>
        <p:nvPicPr>
          <p:cNvPr id="75" name="Рисунок 7" descr="Сухин_Шахматы_1год_учебник2017_2часть20пр.jpg"/>
          <p:cNvPicPr/>
          <p:nvPr/>
        </p:nvPicPr>
        <p:blipFill>
          <a:blip r:embed="rId2"/>
          <a:stretch/>
        </p:blipFill>
        <p:spPr>
          <a:xfrm>
            <a:off x="6372360" y="2349360"/>
            <a:ext cx="2636640" cy="36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Номер слайда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A29CF-8406-46D6-B133-854F0F90A16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Первый в мировой практике учебник  шахматной игры, написанный специально для начальной общеобразовательной школы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Учебник содержит самый элементарный шахматный материал, который закрепляется большим количеством уникальных дидактических игр и заданий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Несмотря на то, что учебник создавался для первого класса начальной школы, его можно использовать на начальном этапе обучения и в других классах школы 1-й ступени, а также в подготовительной к школе группе детского сада. Это обеспечивается тем, что в каждом типе дидактических заданий и игр есть задачи разного уровня сложности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Книга входит в учебно-методический комплект «Шахматы, первый год»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Номер слайда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4EEF5-F426-4907-9A2D-C5A95B737E9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8000"/>
                </a:solidFill>
                <a:latin typeface="Times New Roman"/>
              </a:rPr>
              <a:t>4. Пособие для учителя, первый год обуче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собие для учител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«Шахматы, первый год, или Учусь и учу» (1999, 2011, 2015, 2019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Рисунок 5" descr="ДВ_обложка_1год-пособие-2019_20пр.jpg"/>
          <p:cNvPicPr/>
          <p:nvPr/>
        </p:nvPicPr>
        <p:blipFill>
          <a:blip r:embed="rId1"/>
          <a:stretch/>
        </p:blipFill>
        <p:spPr>
          <a:xfrm>
            <a:off x="5410080" y="1916280"/>
            <a:ext cx="283392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Номер слайда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F55DA-1C70-44C4-A5E6-F1E959B9860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Эта книга</a:t>
            </a:r>
            <a:r>
              <a:rPr b="1" sz="22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первое в мировой практике шахматное пособие для учителей начальных классов, не обладающих большими знаниями в области шахмат. Данное пособие разработано к учебнику для первого года обучения «Шахматы, первый год, или Там клетки черно-белые чудес и тайн полны»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В пособии подробно изложена методика проведения каждого урока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 В начале каждой главы-урока учителю объясняются необходимые шахматные сведения. Обилие в пособии занимательных заданий, увлекательных дидактических игр позволит педагогу сделать каждое занятие праздником для ребят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Книга адресована учителям начальных классов, воспитателям подготовительных групп детского сада, тренерам-преподавателям, а также родителям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Номер слайда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1EBA3-5D00-4CA2-A95B-5F4731F0AC0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8000"/>
                </a:solidFill>
                <a:latin typeface="Times New Roman"/>
              </a:rPr>
              <a:t>5-6. Рабочие тетради, </a:t>
            </a:r>
            <a:br>
              <a:rPr sz="4400"/>
            </a:br>
            <a:r>
              <a:rPr b="1" lang="ru-RU" sz="4400" spc="-1" strike="noStrike">
                <a:solidFill>
                  <a:srgbClr val="808000"/>
                </a:solidFill>
                <a:latin typeface="Times New Roman"/>
              </a:rPr>
              <a:t>первый год обуче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8000" y="1916280"/>
            <a:ext cx="35272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Рабочие тетради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«Шахматы, первый год, или Там клетки чёрно-белые чудес и тайн полны: Рабочая тетрадь: Часть 1» (2004, 2006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2013, 2016-2019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«Шахматы, первый год, или Там клетки чёрно-белые чудес и тайн полны: Рабочая тетрадь: Часть 2» (2005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2014, 2016-2019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Рисунок 5" descr="Сухин_Шахматы_1год_рабтетрадь2017_1часть15пр.jpg"/>
          <p:cNvPicPr/>
          <p:nvPr/>
        </p:nvPicPr>
        <p:blipFill>
          <a:blip r:embed="rId1"/>
          <a:stretch/>
        </p:blipFill>
        <p:spPr>
          <a:xfrm>
            <a:off x="3551400" y="2708280"/>
            <a:ext cx="2525400" cy="3475080"/>
          </a:xfrm>
          <a:prstGeom prst="rect">
            <a:avLst/>
          </a:prstGeom>
          <a:ln w="0">
            <a:noFill/>
          </a:ln>
        </p:spPr>
      </p:pic>
      <p:pic>
        <p:nvPicPr>
          <p:cNvPr id="88" name="Рисунок 6" descr="Сухин_Шахматы_1год_рабтетрадь2017_2часть15пр.jpg"/>
          <p:cNvPicPr/>
          <p:nvPr/>
        </p:nvPicPr>
        <p:blipFill>
          <a:blip r:embed="rId2"/>
          <a:stretch/>
        </p:blipFill>
        <p:spPr>
          <a:xfrm>
            <a:off x="6372360" y="2698920"/>
            <a:ext cx="2520720" cy="34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Номер слайда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33922-17B2-49F7-A243-01F9062A938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63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абочие тетради содержат занимательные задания, которые помогут ребёнку освоить основы шахматной игры. Работая с тетрадями, ребёнок будет помогать рассеянному художнику: исправлять его ошибки, отгадывать загадки. 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 рабочие тетради включён материал, соответствующий Программе «Шахматы, первый год», учебнику  «Шахматы, первый год, или Там клетки чёрно-белые чудес и тайн полны», пособию для учителя «Шахматы, первый год, или Учусь и учу».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Номер слайда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4EDB9-C2B9-443E-8586-FC7AB6FBD0C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8000"/>
                </a:solidFill>
                <a:latin typeface="Times New Roman"/>
              </a:rPr>
              <a:t>7. Тетрадь для проверочных работ, </a:t>
            </a:r>
            <a:br>
              <a:rPr sz="3600"/>
            </a:br>
            <a:r>
              <a:rPr b="1" lang="ru-RU" sz="3600" spc="-1" strike="noStrike">
                <a:solidFill>
                  <a:srgbClr val="808000"/>
                </a:solidFill>
                <a:latin typeface="Times New Roman"/>
              </a:rPr>
              <a:t>первый год обучени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4724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етрадь для проверочных рабо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«Шахматы, первый год, или Там клетки чёрно-белые чудес и тайн полны: Тетрадь для проверочных работ» (2005-2006, 2008, 2010-2011, 2013, 2014, 2016-2018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Рисунок 6" descr="ДВ_обложка_1год-тетрадь_провер-2019_20пр.jpg"/>
          <p:cNvPicPr/>
          <p:nvPr/>
        </p:nvPicPr>
        <p:blipFill>
          <a:blip r:embed="rId1"/>
          <a:stretch/>
        </p:blipFill>
        <p:spPr>
          <a:xfrm>
            <a:off x="5580000" y="1825560"/>
            <a:ext cx="2879640" cy="44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Номер слайда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DC59A-42BF-4395-BFAE-5DC2F9D2076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аждая из 15-ти проверочных работ содержит 16 вопросов (заданий), рассчитана на 10-15 минут и расположена на отдельном листе. 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сновная задача издания - обеспечить текущий контроль после прохождения каждой крупной темы учебной программы. Возможны два равноценных варианта проведения контроля: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1. Перед каждой проверочной работой учащимся выдаются сами тетради.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2. Ученикам выдаются только листы с текущей проверочной работой, заранее вырезанные из тетради. Поэтому на каждом листе есть графы "номер школы и класса", "фамилия ученика" и т.п.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етрадь может быть использована на различных этапах учебного процесса для фронтальной, групповой, индивидуальной работы, для занятий в парах.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Номер слайда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481AB-790C-420F-BC4F-B4CB1093E53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8000"/>
                </a:solidFill>
                <a:latin typeface="Times New Roman"/>
              </a:rPr>
              <a:t>8. Задачник, </a:t>
            </a:r>
            <a:br>
              <a:rPr sz="4400"/>
            </a:br>
            <a:r>
              <a:rPr b="1" lang="ru-RU" sz="4400" spc="-1" strike="noStrike">
                <a:solidFill>
                  <a:srgbClr val="808000"/>
                </a:solidFill>
                <a:latin typeface="Times New Roman"/>
              </a:rPr>
              <a:t>первый год обуче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240" y="1980720"/>
            <a:ext cx="4800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адачник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«Задачи к курсу «Шахматы - школе». Первый год обучения. 1500 малофигурных позиций» (2012, 2016, 2017, 2019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Примечание: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Первоначальное название задачника - «Шахматы, первый год. Задачник, мат в один ход. 1500 малофигурных позиций» (2006-2007, 2009, 2010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Рисунок 5" descr="ДВ_обложка_1год-задачник2019_20пр.jpg"/>
          <p:cNvPicPr/>
          <p:nvPr/>
        </p:nvPicPr>
        <p:blipFill>
          <a:blip r:embed="rId1"/>
          <a:stretch/>
        </p:blipFill>
        <p:spPr>
          <a:xfrm>
            <a:off x="5483160" y="1916280"/>
            <a:ext cx="297648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Номер слайда 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B7826-21BE-445C-B3EB-9DA6F043D96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8000"/>
                </a:solidFill>
                <a:latin typeface="Times New Roman"/>
              </a:rPr>
              <a:t>Федеральный курс</a:t>
            </a:r>
            <a:r>
              <a:rPr b="1" lang="en-US" sz="3200" spc="-1" strike="noStrike">
                <a:solidFill>
                  <a:srgbClr val="808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808000"/>
                </a:solidFill>
                <a:latin typeface="Times New Roman"/>
              </a:rPr>
              <a:t>«Шахматы - школе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26" descr="D:\Мои документы\Мои рисунки\Копия Обложки книг для ШН\Учебник 3 год.jpg"/>
          <p:cNvPicPr/>
          <p:nvPr/>
        </p:nvPicPr>
        <p:blipFill>
          <a:blip r:embed="rId1"/>
          <a:stretch/>
        </p:blipFill>
        <p:spPr>
          <a:xfrm>
            <a:off x="6781680" y="3618000"/>
            <a:ext cx="2343240" cy="3240000"/>
          </a:xfrm>
          <a:prstGeom prst="rect">
            <a:avLst/>
          </a:prstGeom>
          <a:ln w="0">
            <a:noFill/>
          </a:ln>
        </p:spPr>
      </p:pic>
      <p:pic>
        <p:nvPicPr>
          <p:cNvPr id="47" name="Рисунок 7" descr="Сухин_Шахматы_1год_учебник2017_1часть20пр.jpg"/>
          <p:cNvPicPr/>
          <p:nvPr/>
        </p:nvPicPr>
        <p:blipFill>
          <a:blip r:embed="rId2"/>
          <a:stretch/>
        </p:blipFill>
        <p:spPr>
          <a:xfrm>
            <a:off x="2178000" y="3621240"/>
            <a:ext cx="2394000" cy="3236760"/>
          </a:xfrm>
          <a:prstGeom prst="rect">
            <a:avLst/>
          </a:prstGeom>
          <a:ln w="0">
            <a:noFill/>
          </a:ln>
        </p:spPr>
      </p:pic>
      <p:pic>
        <p:nvPicPr>
          <p:cNvPr id="48" name="Рисунок 8" descr="Сухин_Шахматы_2год_учебник2017_1часть20пр.jpg"/>
          <p:cNvPicPr/>
          <p:nvPr/>
        </p:nvPicPr>
        <p:blipFill>
          <a:blip r:embed="rId3"/>
          <a:stretch/>
        </p:blipFill>
        <p:spPr>
          <a:xfrm>
            <a:off x="4541760" y="538200"/>
            <a:ext cx="2262240" cy="310680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8" descr="Рабочие_программы_Шахматы-школе2019-450кб_40пр.jpg"/>
          <p:cNvPicPr/>
          <p:nvPr/>
        </p:nvPicPr>
        <p:blipFill>
          <a:blip r:embed="rId4"/>
          <a:stretch/>
        </p:blipFill>
        <p:spPr>
          <a:xfrm>
            <a:off x="108000" y="623880"/>
            <a:ext cx="2087640" cy="302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Номер слайда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E7D63-0B32-4A83-89B9-34134FC1128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Умение объявить противнику мат – основа шахматного искусства. Однако в море шахматной литературы незаслуженно забытой оказалась важнейшая ступень обучения – задачи на мат в один ход. </a:t>
            </a:r>
            <a:br>
              <a:rPr sz="2200"/>
            </a:b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В задачник включён материал, соответствующий Программе «Шахматы, первый год», учебнику  для школьников «Шахматы, первый год, или Там клетки чёрно-белые чудес и тайн полны» и пособию для учителя «Шахматы, первый год, или Учусь и учу». </a:t>
            </a:r>
            <a:br>
              <a:rPr sz="2200"/>
            </a:b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В сборнике 1500 задач: 1242 чётко структурированные трёх-, четырёх- и пятифигурные позиции-схемы, охватывающие все типичные матовые конструкции для данного количества фигур и практикум из 258 учебных положений.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Номер слайда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6E237-52DA-44D0-ADED-D7A5FB88B7E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8000"/>
                </a:solidFill>
                <a:latin typeface="Times New Roman"/>
              </a:rPr>
              <a:t>УМК «Шахматы, второй год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10480" cy="56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8000"/>
                </a:solidFill>
                <a:latin typeface="Times New Roman"/>
              </a:rPr>
              <a:t>1. Программа «Шахматы, второй год»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первые опубликована в журналах «Начальная школа» (1995, №8) и «Вестник образования» (1995, №9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рограммы двух лет обучения «Шахматы, первый год» и «Шахматы, второй год» были приведены в сборнике «Программы общеобразовательных учреждений. Начальные классы (1 – 4)» (М.: Просвещение, 1996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рограммы трёх лет обучения «Шахматы, первый год», «Шахматы, второй год» и «Шахматы, третий год» были приведены в сборниках «Программы общеобразовательных учреждений. Начальные классы (1 – 4)» (М.: Просвещение, 1998), «Программы общеобразовательных учреждений. Начальные классы (1 – 4)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 двух частях. Часть вторая» (М.: Просвещение, 2000, 2001, 2002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Отдельным изданием программы трёх лет обучения вышли в 2010, 2011, 2013, 2016 и 2019 году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И.Г.Сухин «Программы курса «Шахматы – школе»: Для начальных классов общеобразовательных учреждений» (Обнинск: Духовное возрождение, 2010, 2011, 2013, 2016. – 40 с.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 Интернете программа второго года обучения расположена по адресам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ttp://chess555.narod.ru/2god.ht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http://suhin.narod.ru/chessprogr2.ht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В 2019 году впервые изданы рабочие программы курса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Номер слайда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99203-A502-4F10-B920-9167D91395B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8000"/>
                </a:solidFill>
                <a:latin typeface="Times New Roman"/>
              </a:rPr>
              <a:t>2-3. Учебник для начальной школы, второй год обуче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5960" y="1916280"/>
            <a:ext cx="34160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Учебни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«Шахматы, второй год, или Играем и выигрываем: Учебник для начальной школы, второй год обучения» (2003, 2007, 2008-2009, 2011, 2014, 2017, 2019).  С 2008 года издаётся в двух частя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Рисунок 6" descr="Сухин_Шахматы_2год_учебник2017_1часть20пр.jpg"/>
          <p:cNvPicPr/>
          <p:nvPr/>
        </p:nvPicPr>
        <p:blipFill>
          <a:blip r:embed="rId1"/>
          <a:stretch/>
        </p:blipFill>
        <p:spPr>
          <a:xfrm>
            <a:off x="3276720" y="2335320"/>
            <a:ext cx="2735280" cy="3757680"/>
          </a:xfrm>
          <a:prstGeom prst="rect">
            <a:avLst/>
          </a:prstGeom>
          <a:ln w="0">
            <a:noFill/>
          </a:ln>
        </p:spPr>
      </p:pic>
      <p:pic>
        <p:nvPicPr>
          <p:cNvPr id="110" name="Рисунок 7" descr="Сухин_Шахматы_2год_учебник2017_2часть_20пр.jpg"/>
          <p:cNvPicPr/>
          <p:nvPr/>
        </p:nvPicPr>
        <p:blipFill>
          <a:blip r:embed="rId2"/>
          <a:stretch/>
        </p:blipFill>
        <p:spPr>
          <a:xfrm>
            <a:off x="6284880" y="2349360"/>
            <a:ext cx="2751120" cy="37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Номер слайда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F3ACF-3115-46F9-972D-D40C2DFDBF4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Данный учебник продолжает курс начального обучения шахматной игре и следует за учебником «Шахматы, первый год, или Там клетки чёрно-белые чудес и тайн полны». Теория шахматной игры закрепляется при помощи большого количества дидактических заданий и игр, с преимущественным использованием иллюстративного материала содержательного характера. 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Учебник предназначен для второго класса, однако может быть использован на занятиях в других классах. Это обеспечивается тем, что в каждом разделе учащимся предлагаются как простые, так и сложные задания.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 учебнику «Шахматы, второй год, или Играем и выигрываем» разработано методическое пособие для учителя (и родителей) «Шахматы: второй год, или Учусь и учу»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Номер слайда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71865-4D0D-4CD1-B154-834419BAEB1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8000"/>
                </a:solidFill>
                <a:latin typeface="Times New Roman"/>
              </a:rPr>
              <a:t>4. Пособие для учителя, второй год обуче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собие для учителя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«Шахматы, второй год, или Учусь и учу» (2004, 2008, 2012, 2017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Picture 9" descr="D:\Мои документы\Мои рисунки\Новые фото книг\Марина Духовное возрождение Обложки некоторых новых книг\Chess_cover_metod-2_for_web.jpg"/>
          <p:cNvPicPr/>
          <p:nvPr/>
        </p:nvPicPr>
        <p:blipFill>
          <a:blip r:embed="rId1"/>
          <a:stretch/>
        </p:blipFill>
        <p:spPr>
          <a:xfrm>
            <a:off x="5334120" y="2057400"/>
            <a:ext cx="2795400" cy="425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Номер слайда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284EE-3742-4E62-A75A-A6019892A4E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В данном пособии объясняется, как учителю с минимальной шахматной подготовкой проводить занятия с учениками второго года обучения по учебнику «Шахматы, второй год, или Играем и выигрываем». Пособие будет интересно и родителям, помогающим своим детям освоить основы шахматной игры.</a:t>
            </a:r>
            <a:br>
              <a:rPr sz="2200"/>
            </a:b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Для педагогов, знакомых с шахматами только по материалам УМК «Шахматы, первый год», сделаны необходимые разъяснения.</a:t>
            </a:r>
            <a:br>
              <a:rPr sz="2200"/>
            </a:b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В пособии детально описывается каждый из 33 уроков, приводится большая часть заданий из учебника с решениями.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Номер слайда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8291B-E586-410A-B029-6B40DAC0775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8000"/>
                </a:solidFill>
                <a:latin typeface="Times New Roman"/>
              </a:rPr>
              <a:t>5-6. Рабочие тетради, </a:t>
            </a:r>
            <a:br>
              <a:rPr sz="4400"/>
            </a:br>
            <a:r>
              <a:rPr b="1" lang="ru-RU" sz="4400" spc="-1" strike="noStrike">
                <a:solidFill>
                  <a:srgbClr val="808000"/>
                </a:solidFill>
                <a:latin typeface="Times New Roman"/>
              </a:rPr>
              <a:t>второй год обуче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76320" y="1916280"/>
            <a:ext cx="355896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абочие тетради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«Шахматы, второй год, или Играем и выигрываем: Рабочая тетрадь: Часть 1» (2005-2007, 2009-2010, 2012-2013, 2015, 2017-2019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«Шахматы, второй год, или Играем и выигрываем: Рабочая тетрадь: Часть 2» (2006-2007, 2009-2010, 2012-2013, 2015, 2017-2019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Picture 4" descr="D:\Мои документы\Мои рисунки\Новые фото всех моих книг\ДВ_Рабтетрадь_2класс_1часть50.jpg"/>
          <p:cNvPicPr/>
          <p:nvPr/>
        </p:nvPicPr>
        <p:blipFill>
          <a:blip r:embed="rId1"/>
          <a:stretch/>
        </p:blipFill>
        <p:spPr>
          <a:xfrm>
            <a:off x="3851280" y="2673360"/>
            <a:ext cx="2449440" cy="3348000"/>
          </a:xfrm>
          <a:prstGeom prst="rect">
            <a:avLst/>
          </a:prstGeom>
          <a:ln w="0">
            <a:noFill/>
          </a:ln>
        </p:spPr>
      </p:pic>
      <p:pic>
        <p:nvPicPr>
          <p:cNvPr id="123" name="Рисунок 6" descr="ДВ_Рабтетрадь_2класс_2часть_20пр.jpg"/>
          <p:cNvPicPr/>
          <p:nvPr/>
        </p:nvPicPr>
        <p:blipFill>
          <a:blip r:embed="rId2"/>
          <a:stretch/>
        </p:blipFill>
        <p:spPr>
          <a:xfrm>
            <a:off x="6516720" y="2678040"/>
            <a:ext cx="2448000" cy="33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Номер слайда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BF72D-BD25-405C-8D08-45A6596E450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етради содержат занимательные задания, которые помогут ребёнку освоить основы шахматной игры. Работая с тетрадями, ребёнок будет помогать рассеянному художнику: исправлять его ошибки, отгадывать загадки. 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 рабочие тетради включён материал, соответствующий Программе «Шахматы, второй год», учебнику  для школьников «Шахматы, второй год, или Играем и выигрываем» и пособию для учителя «Шахматы, второй год, или Учусь и учу». 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етради предназначены для второго года обучения в любом классе начальной школы. В случае применения тетрадей в первом классе не обязательно выполнять задания, связанные с использованием шахматной нотации и записью, а решения большей части задач можно показывать только стрелками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Номер слайда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6E9AD-FD6E-4E9A-AD2B-ECD5D0A3CF6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8000"/>
                </a:solidFill>
                <a:latin typeface="Times New Roman"/>
              </a:rPr>
              <a:t>7. Тетрадь для проверочных работ, </a:t>
            </a:r>
            <a:br>
              <a:rPr sz="3600"/>
            </a:br>
            <a:r>
              <a:rPr b="1" lang="ru-RU" sz="3600" spc="-1" strike="noStrike">
                <a:solidFill>
                  <a:srgbClr val="808000"/>
                </a:solidFill>
                <a:latin typeface="Times New Roman"/>
              </a:rPr>
              <a:t>второй год обучени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етрадь для проверочных рабо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«Шахматы, второй год, или Играем и выигрываем: Тетрадь для проверочных работ» (2008, 2013, 2015, 2018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Picture 9" descr="D:\Мои документы\Мои рисунки\Новые фото книг\ДВ_2год_провер30.jpg"/>
          <p:cNvPicPr/>
          <p:nvPr/>
        </p:nvPicPr>
        <p:blipFill>
          <a:blip r:embed="rId1"/>
          <a:stretch/>
        </p:blipFill>
        <p:spPr>
          <a:xfrm>
            <a:off x="5076720" y="1974960"/>
            <a:ext cx="259092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Номер слайда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675F1-FA3E-4013-AFF2-9C7868C05D8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етрадь предназначена для второго года обучения в любом классе начальной школы. Каждая из 15-ти проверочных работ рассчитана на 15-25 минут и расположена на отдельном листе. 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сновная задача издания - обеспечить текущий контроль после прохождения каждой крупной темы учебной программы. Возможны два равноценных варианта проведения контроля: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1. Перед каждой проверочной работой учащимся выдаются сами тетради.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2. Ученикам выдаются только листы с текущей проверочной работой, заранее вырезанные из тетради. Поэтому на каждом листе есть графы "номер школы и класса", "фамилия ученика" и т.п.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етрадь может быть использована на различных этапах учебного процесса для фронтальной, групповой, индивидуальной работы, для занятий в парах.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3B352-9C0C-42C6-8C29-79E5B89105B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Главная цель курса «Шахматы - школе» – поэтапное развитие способности детей действовать «в уме»</a:t>
            </a:r>
            <a:br>
              <a:rPr sz="14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304920" y="2057400"/>
            <a:ext cx="853416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В 60-е годы ХХ века было установлено, что </a:t>
            </a:r>
            <a:r>
              <a:rPr b="1" i="1" lang="ru-RU" sz="2200" spc="-1" strike="noStrike">
                <a:solidFill>
                  <a:srgbClr val="00cc99"/>
                </a:solidFill>
                <a:latin typeface="Times New Roman"/>
              </a:rPr>
              <a:t>важнейшая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 не сводимая к простому накоплению знаний и умений интеллектуальная способность, которая развивается в ходе обучения, – </a:t>
            </a:r>
            <a:r>
              <a:rPr b="1" lang="ru-RU" sz="2200" spc="-1" strike="noStrike">
                <a:solidFill>
                  <a:srgbClr val="ff0000"/>
                </a:solidFill>
                <a:latin typeface="Times New Roman"/>
              </a:rPr>
              <a:t>это способность действовать «в уме»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.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Эта способность является одним из важнейших показателей общего развития психики человека, представляет собой нерасторжимое единство воображения, внимания, памяти и мышления и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заключается в возможности человека оперировать в мысленном плане с заместителями реальных предметов (не совершая с ними развернутых операций в пространстве)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Развитие способности действовать «в уме» важно для всех видов деятельности человека, так как каждый из них требует выполнения операций в определённой последовательности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Номер слайда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4505B-B4F9-4C70-9106-57161B2173C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8000"/>
                </a:solidFill>
                <a:latin typeface="Times New Roman"/>
              </a:rPr>
              <a:t>8. Задачник, </a:t>
            </a:r>
            <a:br>
              <a:rPr sz="4400"/>
            </a:br>
            <a:r>
              <a:rPr b="1" lang="ru-RU" sz="4400" spc="-1" strike="noStrike">
                <a:solidFill>
                  <a:srgbClr val="808000"/>
                </a:solidFill>
                <a:latin typeface="Times New Roman"/>
              </a:rPr>
              <a:t>второй год обуче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адачник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«Задачи к курсу «Шахматы - школе». Второй год обучения» (2012, 2015, 201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7" descr="D:\Мои документы\Задачник_2_год_25пр.jpg"/>
          <p:cNvPicPr/>
          <p:nvPr/>
        </p:nvPicPr>
        <p:blipFill>
          <a:blip r:embed="rId1"/>
          <a:stretch/>
        </p:blipFill>
        <p:spPr>
          <a:xfrm>
            <a:off x="5003640" y="1887480"/>
            <a:ext cx="3009960" cy="44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Номер слайда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63A6F-CD81-41E8-B9F5-B892ABC75A9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8000"/>
                </a:solidFill>
                <a:latin typeface="Times New Roman"/>
              </a:rPr>
              <a:t>УМК «Шахматы, третий год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2280" y="837720"/>
            <a:ext cx="883944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8000"/>
                </a:solidFill>
                <a:latin typeface="Times New Roman"/>
              </a:rPr>
              <a:t>1. Программа «Шахматы, третий год»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первые опубликована в журналах «Начальная школа» (1997, №10) и Образование» (1998, №4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рограммы трёх лет обучения «Шахматы, первый год», «Шахматы, второй год» и «Шахматы, третий год» были приведены в сборниках «Программы общеобразовательных учреждений. Начальные классы (1 – 4)» (М.: Просвещение, 1998), «Программы общеобразовательных учреждений. Начальные классы (1 – 4).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 двух частях. Часть вторая» (М.: Просвещение, 2000, 2001, 2002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тдельным изданием программы трёх лет обучения вышли в 2010, 2011, 2013, 2016 и 2019 году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И.Г.Сухин «Программы курса «Шахматы – школе»: Для начальных классов общеобразовательных учреждений» (Обнинск: Духовное возрождение, 2010, 2011, 2013, 2016. – 40 с.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 Интернете программа третьего года обучения расположена по адресам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http://chess555.narod.ru/3god.ht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http://suhin.narod.ru/chessprogr3.ht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В 2019 году впервые изданы рабочие программы курса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Номер слайда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0DAFE-A2B8-4C95-8467-C53FA8058F9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8000"/>
                </a:solidFill>
                <a:latin typeface="Times New Roman"/>
              </a:rPr>
              <a:t>2-3. Учебник для начальной школы, третий год обуче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76320" y="1844280"/>
            <a:ext cx="32716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Учебник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«Шахматы, третий год, или Тайны королевской игры: Учебник для начальной школы, третий год обучения: В 2-х частях» (2008, 2014, 2018, 2019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Picture 6" descr="D:\Мои документы\Мои рисунки\Копия Обложки книг для ШН\Учебник 3 год.jpg"/>
          <p:cNvPicPr/>
          <p:nvPr/>
        </p:nvPicPr>
        <p:blipFill>
          <a:blip r:embed="rId1"/>
          <a:stretch/>
        </p:blipFill>
        <p:spPr>
          <a:xfrm>
            <a:off x="3564000" y="2525760"/>
            <a:ext cx="2525760" cy="3495600"/>
          </a:xfrm>
          <a:prstGeom prst="rect">
            <a:avLst/>
          </a:prstGeom>
          <a:ln w="0">
            <a:noFill/>
          </a:ln>
        </p:spPr>
      </p:pic>
      <p:pic>
        <p:nvPicPr>
          <p:cNvPr id="143" name="Рисунок 6" descr="ДВ_3год_учебник_Ч2_20пр.jpg"/>
          <p:cNvPicPr/>
          <p:nvPr/>
        </p:nvPicPr>
        <p:blipFill>
          <a:blip r:embed="rId2"/>
          <a:stretch/>
        </p:blipFill>
        <p:spPr>
          <a:xfrm>
            <a:off x="6432480" y="2492280"/>
            <a:ext cx="256212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Номер слайда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8C229-6C3A-4C5E-AF3C-E35B3D93C0D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Данный учебник продолжает курс начального обучения шахматной игре и следует за учебниками «Шахматы, первый год, или Там клетки чёрно-белые чудес и тайн полны» и «Шахматы, второй год, или Играем и выигрываем». Теория шахматной игры закрепляется при помощи большого количества дидактических заданий и игр, с преимущественным использованием иллюстративного материала содержательного характера. 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Учебник предназначен для третьего класса начальной школы, однако может быть использован на занятиях в других классах. Это обеспечивается тем, что в каждом разделе учащимся предлагаются как простые, так и сложные задания.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 учебнику «Шахматы, третий год, или Тайны королевской игры» разработано методическое пособие для учителя (и родителей) «Шахматы, третий год, или Учусь и учу».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Номер слайда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F44B0-52B5-4A48-9810-3BC43D79692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8000"/>
                </a:solidFill>
                <a:latin typeface="Times New Roman"/>
              </a:rPr>
              <a:t>4. Пособие для учителя, третий год обуче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собие для учителя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«Шахматы, третий год, или Учусь и учу» (2009, 2013, 2016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Picture 7" descr="D:\Мои документы\Уучь и учу 3 год25пр.jpg"/>
          <p:cNvPicPr/>
          <p:nvPr/>
        </p:nvPicPr>
        <p:blipFill>
          <a:blip r:embed="rId1"/>
          <a:stretch/>
        </p:blipFill>
        <p:spPr>
          <a:xfrm>
            <a:off x="5181480" y="1981080"/>
            <a:ext cx="2846520" cy="42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Номер слайда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1BFBC-2AC6-4FAE-AAC1-860C035687A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63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В пособии объясняется, как учителю с минимальной шахматной подготовкой проводить занятия с учениками третьего года обучения по учебнику «Шахматы, третий год, или Тайны королевской игры». Самое серьёзное внимание уделяется нестандартным занимательным заданиям. </a:t>
            </a:r>
            <a:br>
              <a:rPr sz="2200"/>
            </a:b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Пособие будет полезно и родителям, помогающим своим детям  освоить основы шахматной игры.</a:t>
            </a:r>
            <a:br>
              <a:rPr sz="2200"/>
            </a:b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Для педагогов, знакомых с шахматами только по материалам УМК «Шахматы, первый год» и «Шахматы, второй год», сделаны необходимые разъяснения. </a:t>
            </a:r>
            <a:br>
              <a:rPr sz="2200"/>
            </a:b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В пособии описывается каждый из 66 уроков, приводится большая часть заданий из учебника с решениями. 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Номер слайда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991AD-B66B-4F8F-98FA-3D6CC367D7F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8000"/>
                </a:solidFill>
                <a:latin typeface="Times New Roman"/>
              </a:rPr>
              <a:t>5-6. Рабочие тетради, </a:t>
            </a:r>
            <a:br>
              <a:rPr sz="4400"/>
            </a:br>
            <a:r>
              <a:rPr b="1" lang="ru-RU" sz="4400" spc="-1" strike="noStrike">
                <a:solidFill>
                  <a:srgbClr val="808000"/>
                </a:solidFill>
                <a:latin typeface="Times New Roman"/>
              </a:rPr>
              <a:t>третий год обуче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70920" y="1980720"/>
            <a:ext cx="3421080" cy="47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абочие тетради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«Шахматы, третий год, или Тайны королевской игры: Рабочая тетрадь: Часть 1» (2010, 2012, 2014-2015, 2018, 2019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«Шахматы, третий год, или Тайны королевской игры: Рабочая тетрадь: Часть 2» (2010, 2012, 2014, 2015, 2018, 2019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5" descr="D:\Мои документы\Мои рисунки\Новые фото книг\Марина Духовное возрождение Обложки некоторых новых книг\Cover_rt_part_1_____for_web_small.jpg"/>
          <p:cNvPicPr/>
          <p:nvPr/>
        </p:nvPicPr>
        <p:blipFill>
          <a:blip r:embed="rId1"/>
          <a:stretch/>
        </p:blipFill>
        <p:spPr>
          <a:xfrm>
            <a:off x="3419640" y="2359080"/>
            <a:ext cx="2736720" cy="3516120"/>
          </a:xfrm>
          <a:prstGeom prst="rect">
            <a:avLst/>
          </a:prstGeom>
          <a:ln w="0">
            <a:noFill/>
          </a:ln>
        </p:spPr>
      </p:pic>
      <p:pic>
        <p:nvPicPr>
          <p:cNvPr id="156" name="Рисунок 5" descr="ДВ_3год_Рабочаятетрадь2Ч-25пр.jpg"/>
          <p:cNvPicPr/>
          <p:nvPr/>
        </p:nvPicPr>
        <p:blipFill>
          <a:blip r:embed="rId2"/>
          <a:stretch/>
        </p:blipFill>
        <p:spPr>
          <a:xfrm>
            <a:off x="6291360" y="2349360"/>
            <a:ext cx="2673360" cy="35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Номер слайда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32547-1A45-40D3-98BD-068CDBD485F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етради содержат занимательные задания, которые помогут ребёнку освоить основы шахматной игры. Работая с тетрадями, ребёнок будет помогать рассеянному художнику: исправлять его ошибки, отгадывать загадки. 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 рабочие тетради включён материал, соответствующий Программе «Шахматы, третий год», учебнику  для школьников «Шахматы, третий год, или Тайны королевской игры» и пособию для учителя «Шахматы, третий год, или Учусь и учу». 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етради предназначены для третьего года обучения в любом классе начальной школ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Номер слайда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7E79A-1705-44D8-91D9-6DD926C2A6D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8000"/>
                </a:solidFill>
                <a:latin typeface="Times New Roman"/>
              </a:rPr>
              <a:t>7. Тетрадь для проверочных работ, </a:t>
            </a:r>
            <a:br>
              <a:rPr sz="3600"/>
            </a:br>
            <a:r>
              <a:rPr b="1" lang="ru-RU" sz="3600" spc="-1" strike="noStrike">
                <a:solidFill>
                  <a:srgbClr val="808000"/>
                </a:solidFill>
                <a:latin typeface="Times New Roman"/>
              </a:rPr>
              <a:t>третий год обучени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79280" y="1981080"/>
            <a:ext cx="3456000" cy="46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етрадь для проверочных рабо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«Шахматы, третий год, или Тайны королевской игры: Тетрадь для проверочных работ» (2011, 2013, 2014, 2016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Picture 6" descr="D:\Мои документы\Проверочная тетрадь3год25пр.jpg"/>
          <p:cNvPicPr/>
          <p:nvPr/>
        </p:nvPicPr>
        <p:blipFill>
          <a:blip r:embed="rId1"/>
          <a:stretch/>
        </p:blipFill>
        <p:spPr>
          <a:xfrm>
            <a:off x="4984920" y="1916280"/>
            <a:ext cx="2827080" cy="42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Номер слайда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3C2F6-6058-4210-99FB-A4EC7240326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етрадь предназначена для третьего года обучения в любом классе начальной школы. Каждая из 15-ти проверочных работ рассчитана на 15-25 минут и расположена на отдельном листе. 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сновная задача издания - обеспечить текущий контроль после прохождения каждой крупной темы учебной программы. Возможны два равноценных варианта проведения контроля: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1. Перед каждой проверочной работой учащимся выдаются сами тетради.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2. Ученикам выдаются только листы с текущей проверочной работой, заранее вырезанные из тетради. Поэтому на каждом листе есть графы "номер школы и класса", "фамилия ученика" и т.п.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етрадь может быть использована на различных этапах учебного процесса для фронтальной, групповой, индивидуальной работы, для занятий в парах.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Номер слайда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A3A75-5DDC-4F3F-A6C4-516A3338717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05920" cy="563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Известно, что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способность действовать «в уме»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необходимо специально развивать, причем её развитие – процесс медленный, предполагающий длительное умственное воспитание детей и завершающийся приблизительно в 12 лет. </a:t>
            </a:r>
            <a:br>
              <a:rPr sz="2200"/>
            </a:b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Наиболее интенсивно эта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способность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развивается в младшем возрасте, но в общеизвестных системах обучения она целенаправленно не формируется. По этой причине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способность действовать «в уме»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достигает оптимального развития всего у 5% людей.</a:t>
            </a:r>
            <a:br>
              <a:rPr sz="2200"/>
            </a:b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Чётко структурированное обучение детей основам шахматной игры является тем оптимальным средством, которое позволяет развить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способность действовать «в уме».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200"/>
            </a:b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Все составляющие курса «Шахматы - школе» и были разработаны для достижения этой глобальной цели.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Номер слайда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39990-3C4F-4913-80B7-29B5F590BA5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8000"/>
                </a:solidFill>
                <a:latin typeface="Times New Roman"/>
              </a:rPr>
              <a:t>8. Задачник, </a:t>
            </a:r>
            <a:br>
              <a:rPr sz="4400"/>
            </a:br>
            <a:r>
              <a:rPr b="1" lang="ru-RU" sz="4400" spc="-1" strike="noStrike">
                <a:solidFill>
                  <a:srgbClr val="808000"/>
                </a:solidFill>
                <a:latin typeface="Times New Roman"/>
              </a:rPr>
              <a:t>третий год обуче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адачник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«Задачи к курсу «Шахматы - школе». Третий год обучения» (201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8" name="Object 6"/>
          <p:cNvGraphicFramePr/>
          <p:nvPr/>
        </p:nvGraphicFramePr>
        <p:xfrm>
          <a:off x="5076720" y="1909800"/>
          <a:ext cx="3024360" cy="436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76720" y="1909800"/>
                    <a:ext cx="3024360" cy="436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Номер слайда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ABB52-90EE-4C71-9626-C44C8D08432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 задачник третьего года обучения включён материал, соответствующий Программе «Шахматы, третий год», учебнику  для школьников «Шахматы, третий год, или Тайны королевской игры» и пособию для учителя «Шахматы, третий год, или Учусь и учу». 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Презентацию подготовил в 2010 году: И.Г.Сухин</a:t>
            </a:r>
            <a:br>
              <a:rPr sz="1000"/>
            </a:b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Коррекция от 0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.09.2019. 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Номер слайда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387B4-69F8-4DC5-94A3-620E97C3490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50560" y="60912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8000"/>
                </a:solidFill>
                <a:latin typeface="Times New Roman"/>
              </a:rPr>
              <a:t>Рабочие программы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«Шахматы – школе. Рабочие программы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-4 годы обучения (2019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Рисунок 5" descr="Рабочие_программы_Шахматы-школе2019-450кб_40пр.jpg"/>
          <p:cNvPicPr/>
          <p:nvPr/>
        </p:nvPicPr>
        <p:blipFill>
          <a:blip r:embed="rId1"/>
          <a:stretch/>
        </p:blipFill>
        <p:spPr>
          <a:xfrm>
            <a:off x="4754520" y="1494000"/>
            <a:ext cx="3273480" cy="47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Номер слайда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0FC5A-1767-46DE-9BF6-66A28A313E8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179280" y="333360"/>
            <a:ext cx="878544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Программы курса "Шахматы – школе" реализуют системно-деятельностный подход и разработаны в соответствии с требованиями Федерального государственного образовательного стандарта начального общего образования и основной образовательной программы начального общего образования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Программы адресованы в первую очередь учителям общеобразовательных организаций и ориентированы на достижение значимой для начальной школы цели – развития у детей фундаментальной способности действовать "в уме" с использованием инновационной здоровьесберегающей шахматно-задачной технологии обучения и системы занимательных дидактических заданий и игр. При реализации данных программ формируются широкие межпредметные связи с основными дисциплинами начальной школы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Научный подход, заложенный в программах курса "Шахматы – школе", обеспечил России ряд приоритетов в области шахматного образования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Номер слайда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21CBC-496C-4647-B95B-42579EAFAFB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8000"/>
                </a:solidFill>
                <a:latin typeface="Times New Roman"/>
              </a:rPr>
              <a:t>Федеральный курс «Шахматы – школе»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ключает в себя следующие учебно-методические комплекты (УМК) :  УМК «Шахматы, первый год», УМК «Шахматы, второй год», УМК «Шахматы, третий год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808000"/>
                </a:solidFill>
                <a:latin typeface="Times New Roman"/>
              </a:rPr>
              <a:t>В УМК «Шахматы, первый год» входят: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1. Программа «Шахматы, первый год»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2-3. Учебник «Шахматы, первый год, или Там клетки чёрно-белые чудес и тайн полны: Часть 1», «…Часть 2»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4. Пособие для учителя «Шахматы, первый год, или Учусь и учу»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5-6. Рабочие тетради «Шахматы, первый год, или Там клетки чёрно-белые чудес и тайн полны: Рабочая тетрадь: Часть 1», «…Часть 2»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7. Тетрадь для проверочных работ «Шахматы, первый год, или Там клетки чёрно-белые чудес и тайн полны: Тетрадь для проверочных работ»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8. Задачник «Задачи к курсу «Шахматы - школе». Первый год обучения. 1500 малофигурных позиций»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Номер слайда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704D6-E881-452F-AB56-BDB6A5FC93C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685800" y="45684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8000"/>
                </a:solidFill>
                <a:latin typeface="Times New Roman"/>
              </a:rPr>
              <a:t>В УМК «Шахматы, второй год» входят: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1. Программа «Шахматы, второй год»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2-3. Учебник «Шахматы, второй год, или Играем и выигрываем: Часть 1», «…Часть 2»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4. Пособие для учителя «Шахматы, второй год, или Учусь и учу»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5-6. Рабочие тетради «Шахматы, второй год, или Играем и выигрываем: Рабочая тетрадь: Часть 1», «…Часть 2»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7. Тетрадь для проверочных работ «Шахматы, второй год, или Играем и выигрываем: Тетрадь для проверочных работ»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8. Задачник «Задачи к курсу «Шахматы - школе»: Второй год обучения»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8000"/>
                </a:solidFill>
                <a:latin typeface="Times New Roman"/>
              </a:rPr>
              <a:t>В УМК «Шахматы, третий год» входят: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1. Программа «Шахматы, третий год»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2-3. Учебник «Шахматы, третий год, или Тайны королевской игры: Часть 1», «…Часть 2»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4. Пособие для учителя «Шахматы, третий год, или Учусь и учу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5-6. Рабочие тетради «Шахматы, третий год, или Тайны королевской игры: Рабочая тетрадь: Часть 1», «…Часть 2»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7. Тетрадь для проверочных работ «Шахматы, третий год, или Тайны королевской игры: Тетрадь для проверочных работ»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8. Задачник «Задачи к курсу «Шахматы - школе»: Третий год обучения»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Номер слайда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C2D7E-141C-4C8F-9A6C-19FFE10DE96F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pic>
        <p:nvPicPr>
          <p:cNvPr id="66" name="Picture 1026" descr="D:\Мои документы\1god_progr.jpg"/>
          <p:cNvPicPr/>
          <p:nvPr/>
        </p:nvPicPr>
        <p:blipFill>
          <a:blip r:embed="rId1"/>
          <a:stretch/>
        </p:blipFill>
        <p:spPr>
          <a:xfrm>
            <a:off x="1547640" y="1916280"/>
            <a:ext cx="6110640" cy="442584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808000"/>
                </a:solidFill>
                <a:latin typeface="Times New Roman"/>
              </a:rPr>
              <a:t>Программы курса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20:28:55Z</dcterms:created>
  <dc:creator>suhin</dc:creator>
  <dc:description/>
  <dc:language>en-US</dc:language>
  <cp:lastModifiedBy>home</cp:lastModifiedBy>
  <dcterms:modified xsi:type="dcterms:W3CDTF">2019-09-08T07:59:59Z</dcterms:modified>
  <cp:revision>363</cp:revision>
  <dc:subject/>
  <dc:title>И.Г.Сухин</dc:title>
</cp:coreProperties>
</file>